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851-2928-40AE-A647-DC8C79A1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778-61A1-4611-912D-62D084D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063-BF2A-48C2-8BCE-8B6FE69D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38E-72DC-4937-B8FC-503E211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FF1B-8C7D-4854-9DAB-9333A896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978-9809-4688-80A6-D344EBB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83A3-CEB6-4862-9695-3146905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5CBC-9EDA-4F6E-A4E4-7BB81DC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A39D-38E1-45CE-B88E-E95C97E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A72-DB6F-43B9-8A7F-D9AA0FA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BE3-931A-4D6F-ABD9-1039664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BE7-27C6-49D6-A5C2-7F3C2E6D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94B-9664-43F1-B4E5-793CA6E6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8CF-00D4-4C81-BC2F-7173702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B8AC-16F1-4540-985C-42E388F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00D6-5E9C-489A-8C11-2EC90228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C1CB-C3BD-4B6A-B0F1-76B89D73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643-3738-421E-9254-79D285B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36A-FF2B-4083-AC2F-7A5CCCE1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040-570F-47BF-A691-E90ED60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FA1-D29C-4998-BC6D-BDC87388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5B1-A463-478F-A319-00F3368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FDA-29CF-4E6B-9E07-8DBCB8B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783-031C-470B-A9C5-76FC635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976-DE6A-4FF7-8EDB-9D453344514B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AA5B-45B3-4D70-AC52-2C26E9A97F8E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لا مثل لك يا إلهي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رَعْتُ بَابَكَ بفَرَحٍ فَتَح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َلَبْتُ السَّعَادَة بوَفْرَةٍ مَنَح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َّمْتُ لَكَ ذَاتِي بحُنُوٍّ قَبل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عْرِفْنِي أَحَدٌ مِثلَمَا عَرَف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مُرْنِي أَحَدٌ مِثلَمَا غَمَر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فِرْ لِي أَحَدٌ مِثلَمَا غَفَر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بُعْدِي عَنْكَ غَرِقْتُ في خَطِيئ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سْرَعْتَ إِلَيَّ تَبعْتَ خُطُو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َيْتَنِي حُبَّكَ أَنْعَشْتَ حَي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8T17:06:00Z</dcterms:modified>
  <cp:revision>25</cp:revision>
  <dc:subject/>
  <dc:title>Slide 1</dc:title>
</cp:coreProperties>
</file>